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078D-6D3F-4EFE-AEF6-E2AC6518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480E-0CB3-42D3-903F-43733B883D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A7B-89FF-4023-BDE5-289F124795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C511-CDBA-483D-9ECC-AC878F056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78F6-7E05-4929-8F41-46CA86C03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71AC-E6CB-4F58-966D-3B0FC62F1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F186-3016-4C2D-9F22-567DDC039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6E92-7FE2-407F-AB63-D2920911B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2238-2247-4C2E-BEA7-5D688498E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0257-A480-452C-B0CC-B7E5081A6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FAA8-58B3-48B1-9C68-4180E1C59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103E-10B5-4B85-B512-BB353993F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C552-A929-4890-86CF-7CC99A888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4FDE-1B13-4CAE-B239-B6425F468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E471-48C5-4B5E-B1D4-CEEC9ACAA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4D77-5602-408D-8090-9C854B4EEA0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1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87440" y="65008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osul Copyright-ulu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 ghid educ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onal de utilizare a dreptului de aut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zentarea a fost creat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entru curs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3EFC-9312-409C-B95F-F4BCFC677AC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Atribuiri şi recunoştiinţ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5e647"/>
                </a:solidFill>
                <a:latin typeface="Verdana"/>
              </a:rPr>
              <a:t>Numiţi sursele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 şi afişati semnul de copyright 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66ccff"/>
                </a:solidFill>
                <a:latin typeface="Verdana"/>
              </a:rPr>
              <a:t>Numirea surselor:</a:t>
            </a:r>
            <a:r>
              <a:rPr b="1" i="1" lang="ro-RO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- daţi o descriere bibliografică completă cu informaţiile care sunt disponibile (incluzând autorul, titlul, tipografia, locul şi data tipăriri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66ccff"/>
                </a:solidFill>
                <a:latin typeface="Verdana"/>
              </a:rPr>
              <a:t>Afişati semnul de copyright:</a:t>
            </a:r>
            <a:r>
              <a:rPr b="1" i="1" lang="ro-RO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-sub poze adăugaţi informaţii despre deţinătorul copyrightului (anul primei apariţii, numele deţinătorului dreptului de auto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Exemplu: © 2001 Company/Person’s Na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9DF8-7E6C-463F-B590-E8365549AEC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720" y="228240"/>
            <a:ext cx="86932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Folosirea ulterioară dincolo de folosirea legală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Dacă există posibilitatea ca un proiect să fie răspândit (de exemplu publicat pe internet):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obţineţi permisiunea când îl creaţi, decât să asteptaţ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Exemple de scrisori pentru permisiune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unt disponibile pe Curriculum Resource CD, Folder-ul Resource, Copyright Resour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crisori pentru solicitarea permisiunii către deţinătorii dreptului de aut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crisori pentru solicitarea permisiunii părinţilor de a publica lucrările elevilor sau a pozelor copiilor l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un exemplu de scrisoare pentru a folosi acest cur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7567-2125-40D8-86F4-0748F8ED235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5760" y="8380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fatur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Reţineti că acestea sunt sfaturi, nu legi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Cu toate acestea, cu cât te îndepărtezi mai mult de aceste sfaturi, cu atât mai mult ai şansa să fii în afara “folosirii legale”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FCD8-8C96-4915-8629-5B89F3BECAE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Dar despre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Dacă nu ai permisiunea deţinătorului dreptului de autor, atunci este ilegal să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procuri o licenţă pentru un singur utilizator şi să o foloseşti pe mai multe calculatoare sau un serv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downloadezi softuri cu drept de autor de pe Intern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împrumuţi şcolii tale softul pe care l-ai procurat pentru calculatorul tău de acasă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opyright and Fai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FCB6-BE2C-4538-80DE-25F14115D72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76D3-2761-4775-8EFE-E50B43AAF40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4060-F96F-4DF4-9435-7C983391D62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4BDA-22F4-4278-BA94-4B15640C6E9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8DA3-69E5-4640-9314-C86243895B0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tilizarea acestei prezent</a:t>
            </a: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easta prezentare  poate fi utilizat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 scopuri non-profit , educa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onale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 apar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 firmei 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8B79-A5BB-422B-AF09-C55DF2C80A9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Verdana"/>
              </a:rPr>
              <a:t>Ce este copyrightul?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Dreptul exclusiv de a produce şi reproduce, de a reprezenta în public, sau de a publica o operă originală artistică sau literală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Aproape orice creat privat şi original, după ce este protejat, indiferent dacă are o înştiinţare sau nu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BE0B-AC75-479D-875F-3F827FD361E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Itemi care nu sunt protejaţi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ccff"/>
                </a:solidFill>
                <a:latin typeface="Verdana"/>
              </a:rPr>
              <a:t>Exemple de itemi care nu sunt protejaţi de legea copyrightulu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lucrări care nu au fost scrise sau înregist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idei, metode, descoperiri care se disting dintr-o descriere, explicaţie sau ilustraţ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lucrări constituite în intregime din informaţii comune (de ex: calendare standard, carte de telefoan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itemi din domeniul public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majoritatea materialelor guvernamentale (unii itemi creaţi de antreprenori pentru guvern pot fi protejaţi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fap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3AD8-7989-42D6-A896-6E98BE63F53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auza folosirii lega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Folosirea legală este o parte a legii copyrightului. Permite oamenilor să folosească şi să copieze lucrări protejate dacă sunt folosite pentr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ritic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omentari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Ştir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Învăţămâ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Burse şcol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ercet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03A2-1A2B-4DD1-B617-A60BEF7DBC1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 factori 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care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jut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la determinarea folosirii lega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1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Scopul şi caracterul folosirii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, inclusiv dacă folosirea este   de natură comercială în scopuri educative nonpr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poate fi folosit în scopuri educaţionale, nu doar intr-un   mediu şco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2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Natura lucrării protej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folosirea legală se aplică mai puţin lucrărilor creative în comparaţie cu cele bazate pe fapte din natur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3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Marimea parţii folosi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în raport cu lucrarea protejat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folosirea doar a ceea ce este necesar, nu şi a “miezului” lucră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4.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Efectul folosirii asupra potenţialei pieţ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a lucrării proteja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copierea nu trebuie să afecteze piaţa lucrării proteja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culegeri de probl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0919-FBB5-40C6-9FD5-4EAE28277D2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5760" y="533160"/>
            <a:ext cx="823752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lvl="1" marL="20412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ul folosirii lega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Fair Use Guidelines for Educational Multimedia “ a fost creat pentru a oferi suport în privinţa folosirii leg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Cu toate acestea nu este un document legal, este doar o interpretare a legii, se aplică doar educatorilor care produc multimed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A361-A6AE-4307-9C52-5B09597AB4D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 pentru studenţi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Studenţii şi educatorii au ghiduri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5e647"/>
                </a:solidFill>
                <a:latin typeface="Verdana"/>
              </a:rPr>
              <a:t>Studenţii pot: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încorpora porţiuni din lucrări protejate când îşi realizează propriile proiecte educaţionale multimedia pentru un anumit cu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prezenta  propriile proiecte la cursul pentru care au fost cre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reţine proiectele în propriile portofolii ca exemple ale muncii academice pentru scopuri personale ulterioare cum ar fi servicii sau interviuri şcol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8EE8-BE27-45E3-A889-9A4869AC8C1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 pentru educatori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Educatorii po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ncorpora porţiuni din lucrări protejate când  realizează proiecte educaţionale multimedia care să vină în ajutorul predă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Reţine proiectele pe termen nedefinit în următoarele scopur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pentru a le prezenta colegilor săi ca exemeple la conferinţ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să le reţină în portofolii pentru uz personal cum ar fi promoţii sau  interviuri pentru job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să folosească proiectele pentru predare pe o perioadă de până la 2 ani dupa prima folosire cu o clas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folosirea după această perioadă de timp necesită permisiunea pentru fiecare porţiune protejată încorporată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46AE-0FE9-4A49-9F31-493933E1CEE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ffffff"/>
                </a:solidFill>
                <a:latin typeface="Verdana"/>
              </a:rPr>
              <a:t>Sfaturi pentru rămânera în permisiunea legală</a:t>
            </a:r>
            <a:endParaRPr b="1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5760" y="1371600"/>
          <a:ext cx="8237520" cy="454356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 min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1000 cuvi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z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de cuvinte; nu mai multe de 3 poezii de acelaşi autor; nu mai mult de 5 poezii dintr-o singură ant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zică,versuri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0 secu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tografii şi Ilustrat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ini de la un autor; Nu mai mult de  10% sau 15 imagini dintr-o singură publicaţ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uri de date nume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din 2500  câmpuri sau cel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6"/>
          <p:cNvSpPr/>
          <p:nvPr/>
        </p:nvSpPr>
        <p:spPr>
          <a:xfrm>
            <a:off x="152280" y="789120"/>
            <a:ext cx="81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Verdana"/>
              </a:rPr>
              <a:t>Din lucrarea protejată, puteţi folosiţi următoarele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ARDELEAN NORIN</cp:lastModifiedBy>
  <dcterms:modified xsi:type="dcterms:W3CDTF">2010-12-01T08:01:37Z</dcterms:modified>
  <cp:revision>316</cp:revision>
  <dc:subject/>
  <dc:title>Copyright Chaos</dc:title>
</cp:coreProperties>
</file>